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307-E0FD-42B2-9A6B-2D277D38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ACB-A1E6-4B4F-8C8B-279105E3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3709F-FF55-4C1B-BFF0-E00E38BC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62F63-C8FC-4C8D-9A75-0FE7F4C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C8E62-C7C1-44FD-8710-AC9F918F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147E-5125-4D51-B278-6665748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1F13-C646-4B50-AD74-4034D8E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66965-0E13-4E1F-9E3E-0C21612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21751-B920-49D3-9B61-1380F19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1A2F5-77C7-4A71-9E63-268BAF2E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3172D-529D-454F-9813-77C1F628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314C-154A-4665-BF70-D9DBB34E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5D7-9BF6-4853-8AC9-A5EB9707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0CF97-20B7-4A71-AE1A-22CCCB3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217F-25A5-4C9F-BBA2-D3BCCF18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AB130-EF87-4A2C-BF36-002D2B9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31BE9-6E0C-443B-9F3F-FAD4E47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A3A2-9870-4D7E-AE9D-979A360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B7409-12C4-4B81-AA05-20533D9F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6A21D-53C4-4A9F-9AC5-D13D50F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2E8A8-350A-4834-ADA4-E245236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6F6E7-79B5-4333-8235-942E2EA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888C-EB4F-4722-A36C-AC181E16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A34-4A0D-43CF-B2DB-6659B71E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1024A-E73D-463C-97F6-79AA7BA7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B966C-512F-43C0-A08C-ECA17C77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7BEA-A107-42D6-B6B8-501BD59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6F80-6F2F-4052-B4A8-E699E43C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048DD-F8F6-4FB5-85F5-0A0553C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E41D8-6A68-4D80-A65B-BBFF825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DB53D-4B7A-40CC-9815-3582314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2334-4F89-4E03-904C-EA71C6D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8247-28FA-4F32-8C7F-DCA8EC3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037C5-A1AB-4F68-ACBF-7140A16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31BD-FE22-4797-8032-6BF559AF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8145C-6AD4-4C9E-A9BF-B439483C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3F2E9-9BE8-4940-BE65-F3687616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1C298-18DA-4E0B-831D-0157DD33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293EA-5A92-40D5-9829-D950305D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78C08-58B5-4EDB-A6BD-024133C2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AD3C0-53BE-4D64-9E1A-81D366F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5BF43-2C7B-4F07-80CA-6C912598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4B75B-1CE8-4CAE-A26B-1D01C7F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AE484-C8CF-4B54-B752-2580D5D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19F88-B9CE-4BFD-B601-E65F70AC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695-AA87-44DE-80A8-BA018576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2770A-FB57-421D-87FD-F561A0AA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CB686-50E0-481E-8361-0BB29CF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E87EA-A9F1-4AD7-8C04-CA8CCD02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8F958-B73C-4609-9BA4-170F5B7A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E2486-3186-4D3C-A68C-E8A1603B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02FAD-0C91-4679-BBDA-4E4BC4E5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6A9AD-3787-46DE-876D-6E3F9130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5AD48-5B6A-4B75-974B-6DD6656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B7A2D-117B-4745-A66C-ACEA3226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E4BB4-7A42-4EE0-8E9F-5021421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022-5BCA-473A-849D-AB146ABE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312CC-45B9-45C1-85C6-A2D3623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AAB0D-B36B-401A-B627-3A5D876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81ABA-5AC1-43B3-9445-4D29B19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39639-F320-4F56-88BF-599C316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0E03D-95AD-4DDD-8826-7F1F463C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CDAC3-41D5-47AD-8173-B55D7FD8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7185-2767-4552-B10E-E485BC8A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FD9E0-08F2-408C-8703-23DFB61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AFDF2-70BA-4FD1-B6F4-15C4531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AB58-2933-481D-A25F-6CD81D7E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0A7B-1E56-4561-B579-CA7EFB9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7687D-FD9C-43D9-8A20-181C6E53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D925-9B0D-4BA4-AADD-E1DEFA33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4D9F8-AB40-4748-B868-9B6B034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63E17-C987-4B39-9302-E7E31BC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85ED3-B3A3-41F7-982C-D3E47AD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D97F8-56B4-4485-A86F-22BB4D96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239D2-20AD-4E5B-AB0A-B4C778D8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9EBAD-BAD7-4CD6-BAE9-26E40794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55715-142D-4876-8B83-22D7644A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37E8A-3D31-4735-A57C-F070F9BB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3BD6-4CD8-4C1E-BEF0-B92E94A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477C5-A25F-4206-A5D3-35A3D5D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F889D-ECF8-43EB-8105-21B5C3B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46C0B-4671-42FB-95A7-C1646114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C637E-3532-4B71-B83B-D8AC9873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CA1D9-6A5C-45EE-AD1B-B298556C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1FD30-38BE-4B1F-892C-F9E0902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892FB-9149-4929-8A10-2A3E46E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9307E-214E-4892-9EFA-643C51F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BB3A8-93E6-4907-B420-E727CAFF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654AB-B4EF-4BB2-924E-C68015FA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975C-28CA-450B-BA74-8C3DEF0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4192C-FF28-4993-8B01-8A6EAB24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AF5-2FD7-4D4F-A201-ADCAEBA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B1B-4265-4766-A330-ECFDC3E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B12-C683-4DAC-8340-D86167D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6385-52B4-46A8-B9EE-F993453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575A-F22C-410E-9F13-8B143FC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569A-A025-452E-92AF-986FF6B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7FD-D649-49F7-BD8C-42044311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8C14-4DE4-4E26-8E61-26F8585F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8E3F-367E-4427-A609-63A84D40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8945-60CA-4449-921D-3FE2A4E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592A-A214-4955-939A-7CAD152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77F1-E9DD-4166-8266-AA7E5829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7A1-FB6F-4483-9B68-01B3D0B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A2D1-98A5-458C-986D-CDADDD83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FCF7-674D-4AD6-8169-11DF1D6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E84C-C408-414D-8B2D-F1A98EC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0A3E-2725-485A-8339-8B66FFB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E339-9F79-45E3-AF39-88285C9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4122-2E49-47F7-948F-FEC9883B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D38F-BBB0-4B0F-8FE5-6AA60C60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3C96-47EA-49BA-BAF6-D5771860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90EB-DF31-4458-94B2-76DD7A6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02B00-EA8F-42E7-A27E-05CC4AF6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F67-CF6F-460C-A000-66EBCAF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BEBDF-81CC-44B1-9475-6F3AE98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CD20-C53B-42CB-837D-16BC6A9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BBC4-2003-4B71-A13F-177C7168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9F14-1051-43C8-8580-DC1A001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9E77-2BDD-47E5-B2CB-1AD2B2E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F472-2DDC-4B4F-9926-627EB0C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F21D-EAAF-4EE2-85CB-740B8165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C1FB-EB00-4784-8B6B-E56C224A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0A6C-143B-4786-B343-E6A9E631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492D-DA4B-43A0-809D-6690B306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DCB-FFA2-4A5E-9867-65EE6760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50F0-DB20-4021-8533-4A98AE3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285B-F931-4D05-8D8F-2937C8E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326F-BA8F-4BB6-92B1-64E165B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7762-B81D-4426-AA86-4A942718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E1EA-C22D-4715-A140-E3770E3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3B68-924F-4209-B366-97FC79E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7DFB-A097-41C2-BFE6-6000ADF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6A61-0692-4631-868B-03326E2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FEB3-0612-4178-AFE7-8E2E388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ED36-674E-468E-BF6E-543CE206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C29-5599-49FE-96D9-CD986D5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A9B1-414B-4F2C-A370-4B033E1C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4996-2593-41B1-B714-EEAF102C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89D6-1FC8-470B-946D-A0B5706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0EB9-2EDE-4217-8EF6-81FE1331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75AA-E9C0-4F42-8583-1823849D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82B24-90DF-498E-8112-7FED4EF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6E2B-8ED0-4304-BF9F-F653953E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55DC-197F-4DDF-AB59-008F1E0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EC933-FB26-42EF-B28C-C16F424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C2F6-4F26-4A10-B961-8F00AA0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8BE-DAC5-4416-8736-C14DBCD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0BA1-55D2-4986-A06D-B5C2BFB6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9482-D876-4F52-B026-4CDD5AA2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EF82C-815F-42F7-AF91-A011C1BC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2DB5-3E50-4182-920C-7E71126C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D05FE-E7F3-4C97-9FF8-540697A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4F3B-4F05-4FFC-B782-9946370D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9674-8FBA-4052-9A4D-9DF9B5FA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6701-22C7-43C4-BDA8-4D251C91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B93D-6E18-409F-8185-02F476AB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25EC-2AA7-4327-A1AB-49D8B23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FA1-F260-40AD-82A0-AAEBC683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B2D12-177B-47D3-939A-D9971E2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53B11-7DF7-4082-9E19-A642D36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9B46-B025-4579-9A7D-CDD6299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F7EF8-561E-406D-A6C0-50DA1A6F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F413-0241-4EE7-92F4-722179D7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BECF-985F-4A2A-A03E-58E174FF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21E84-C000-490B-BE42-380004A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F048-084B-4592-B509-B70E16F8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0B09-3D5F-4CDB-B5FC-0A8968D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A649-12EB-4B99-8EFA-0CFB459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EF7-CBCF-4B50-8817-E36BF7B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DA4A8-99B5-4EE8-A735-AAB286C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DA63-6012-4105-AEA8-28E5B29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D3957-ED19-4167-B809-6EBFB93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60CB-B794-4DF5-8004-40CFA34A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B090-C02F-422F-B861-3864F182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BD19-DB87-446D-B9DF-28C30355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A578-3B57-4DAD-9194-E58EF6FF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201D-857D-4DC9-BEC6-FF5A079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69076-EF51-4198-A3D3-7EA4144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DB69-E683-41F0-9FC2-3EF5BE1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850E2-7F4A-4CB0-B7B2-6499156C338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36F18-3D41-4D5B-980A-E688453CDD21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927EA-2A62-424A-A75E-D8AA2B2CE1E6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43C65-9CE5-4DB0-8A35-7F71E778185B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D7C7-7A03-4DEA-B31D-26E757ED2D42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F78E6-2C0E-41F7-A9B5-32E6B7849B1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84C60-18C3-4834-BAC9-D5C1151078F0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8A762-7D34-48F0-86AA-00D76229DCDE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DF6FB-36CF-4D57-B9BB-C09437411776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C08BF-A5D6-4AF4-A237-EBF56AFFF7DB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DB4CC-6F73-43F0-B704-F916F75CEEA2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FCAFC-6A67-4597-82AF-91E1533F1C3A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6119B-7AF4-4BC6-8AC9-49139A5A1EFE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31A18-B87D-4CEF-B894-104DF841893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F5439-4197-46AD-810D-3E3A6B973AB3}" type="slidenum">
              <a:rPr b="0" lang="en-US" sz="1200" spc="-1" strike="noStrike">
                <a:solidFill>
                  <a:srgbClr val="8268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sto MT"/>
              </a:rPr>
              <a:t>Stand by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sto MT"/>
              </a:rPr>
              <a:t>Adapted for Habitats unit ELD</a:t>
            </a:r>
            <a:endParaRPr b="0" lang="en-US" sz="5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Katy Salgado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LS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horus:  And darlin’, darlin’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 Oh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h Darlin’ won’t you stand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0" name="Picture 7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5624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2"/>
          <p:cNvSpPr/>
          <p:nvPr/>
        </p:nvSpPr>
        <p:spPr>
          <a:xfrm>
            <a:off x="-34200" y="901800"/>
            <a:ext cx="36309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reate your own vers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f the clothes I wear           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get stained or tear,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Or my ice cream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melt to the ground,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f the _____I/we__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 _____and _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Or the/my __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hould_________ to the ____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tretch/>
        </p:blipFill>
        <p:spPr>
          <a:xfrm>
            <a:off x="3295800" y="901800"/>
            <a:ext cx="2508120" cy="3103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5" descr=""/>
          <p:cNvPicPr/>
          <p:nvPr/>
        </p:nvPicPr>
        <p:blipFill>
          <a:blip r:embed="rId2"/>
          <a:stretch/>
        </p:blipFill>
        <p:spPr>
          <a:xfrm>
            <a:off x="5803920" y="90180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"/>
          <p:cNvPicPr/>
          <p:nvPr/>
        </p:nvPicPr>
        <p:blipFill>
          <a:blip r:embed="rId3"/>
          <a:stretch/>
        </p:blipFill>
        <p:spPr>
          <a:xfrm>
            <a:off x="6000840" y="400536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hen the night has come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d the land is dark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d the moon is the only light we’ll se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1"/>
          <a:stretch/>
        </p:blipFill>
        <p:spPr>
          <a:xfrm>
            <a:off x="2589120" y="2363760"/>
            <a:ext cx="4611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be afrai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o I won’t be afrai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2038320" y="1898640"/>
            <a:ext cx="5067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Just as long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 you stan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2349360" y="2241720"/>
            <a:ext cx="5978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horus:  And darlin’, darlin’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 Oh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h Darlin’ won’t you stand, 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4" name="Picture 7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5624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f the sky, That we look upon,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hould tumble and fall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67" name="Picture 5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380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r the mountains, should crumble to the se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0" name="Picture 3" descr=""/>
          <p:cNvPicPr/>
          <p:nvPr/>
        </p:nvPicPr>
        <p:blipFill>
          <a:blip r:embed="rId1"/>
          <a:stretch/>
        </p:blipFill>
        <p:spPr>
          <a:xfrm>
            <a:off x="952560" y="1406520"/>
            <a:ext cx="6159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cry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I won’t cry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No I won’t shed a tear. 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3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-360" y="217440"/>
            <a:ext cx="800100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Just as long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 you stand,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tand by me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534960" y="146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1"/>
          <a:stretch/>
        </p:blipFill>
        <p:spPr>
          <a:xfrm>
            <a:off x="2349360" y="2252520"/>
            <a:ext cx="5651640" cy="4145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"/>
          <p:cNvPicPr/>
          <p:nvPr/>
        </p:nvPicPr>
        <p:blipFill>
          <a:blip r:embed="rId2"/>
          <a:stretch/>
        </p:blipFill>
        <p:spPr>
          <a:xfrm>
            <a:off x="2349360" y="2241720"/>
            <a:ext cx="5978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23:23:49Z</dcterms:created>
  <dc:creator>City School</dc:creator>
  <dc:description/>
  <dc:language>en-US</dc:language>
  <cp:lastModifiedBy>122790</cp:lastModifiedBy>
  <dcterms:modified xsi:type="dcterms:W3CDTF">2011-07-07T20:34:39Z</dcterms:modified>
  <cp:revision>12</cp:revision>
  <dc:subject/>
  <dc:title>Stand by me Adapted for Habitats unit ELD</dc:title>
</cp:coreProperties>
</file>